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874E-C842-4400-821B-CF9B81A8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040-EC68-4398-8314-3DA42E9B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F37-759F-4E25-B532-AF5B2DB3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9AC-B941-41D9-8553-D415A950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54F7-E1BB-4529-8CEB-6FC7903E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AD5B-1ACE-462C-9402-512132AC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3D3E-4EB4-4BAA-ABC6-453EAB6E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CBC2-EDF9-4D32-A65C-A8951217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B608-6FB7-4555-B24B-6137235F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8002-9E7C-4B8A-A91D-D9AEC242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1021-53D8-477A-8454-14350F65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22A-2D61-44BC-94BE-2B7112D2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5C8F-183C-4335-94E2-0127AD57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D91C-B93B-4EE2-A222-E4D0FB0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AD29-2F8A-4C42-B8C7-AD10366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F15A-3F76-40FE-8A6C-9B784A0F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AE69-50C3-4DA8-BBF7-3E359B2D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2F44-F16B-481D-AFAF-C1D02B5A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10DAC-00EC-4572-B3D2-2C1D7F11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624E-538D-4174-BB8D-9BC284F1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A2A6-04B8-4F76-9FE1-0910B93E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220E-44A6-4152-926D-64FA2BFC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804-AE31-4271-975D-3296038F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F853-2C3F-4221-B339-CFC954FD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82035-EB50-444A-A6CA-721353D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B113-C078-44F0-A38D-7EF19EE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ADD33-AF64-4109-B778-D09FFB90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0ACA6-CB2E-422F-894E-1A18F795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5ADC9-C935-40A0-A7BF-B932C721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0DC7-3BCB-4B50-BB17-CE0F8DF2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3A9C6-2FBE-45EB-AD73-EC857D49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56AD-42B8-46AB-8BCD-7A569EFF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4DFFF-9195-4124-83BF-7DB16E3F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466-64EA-4D31-8A5E-C11BC0E4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5F8ED-3203-40A1-B41B-9B2A72CE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EEFF-3695-4EA2-9EF3-7675FBEF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BF417-C25C-4923-B30E-95A3C7BE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CA443-6FC1-4F36-A1AD-B18CF04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C5CCA-C090-47BD-A0C1-EF046A75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8516E-16E7-4BEB-A9A0-D735D257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5BD9-CF2F-4CA9-A964-8DBD6160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B3BED-4989-4040-8210-A31F9245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FE3D-2EBE-4540-82C6-3B6F8169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C0D6-0670-44FF-9D32-40E7213F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070-A513-4222-AC5E-966573FD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4B2-0ED7-41E9-8EC6-9269380A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6D0-BAA5-4205-B2F0-5BFDEC3A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680-97A4-4B76-B6A7-3A4D646F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E776-F42A-44C6-89C6-3CE128BDC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7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25F0-C752-46C5-8BC0-EE5FE1C99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6920" y="6165720"/>
            <a:ext cx="2358360" cy="621360"/>
            <a:chOff x="196920" y="6165720"/>
            <a:chExt cx="2358360" cy="621360"/>
          </a:xfrm>
        </p:grpSpPr>
        <p:graphicFrame>
          <p:nvGraphicFramePr>
            <p:cNvPr id="51" name=""/>
            <p:cNvGraphicFramePr/>
            <p:nvPr/>
          </p:nvGraphicFramePr>
          <p:xfrm>
            <a:off x="196920" y="616572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6572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59240" y="641880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6042-1172-41D2-A53C-AC387A3BC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98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704-4BA2-4985-83D3-0549D777D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920" y="6122880"/>
            <a:ext cx="2358360" cy="621360"/>
            <a:chOff x="196920" y="6122880"/>
            <a:chExt cx="2358360" cy="621360"/>
          </a:xfrm>
        </p:grpSpPr>
        <p:graphicFrame>
          <p:nvGraphicFramePr>
            <p:cNvPr id="142" name=""/>
            <p:cNvGraphicFramePr/>
            <p:nvPr/>
          </p:nvGraphicFramePr>
          <p:xfrm>
            <a:off x="196920" y="6122880"/>
            <a:ext cx="588240" cy="53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920" y="6122880"/>
                      <a:ext cx="588240" cy="53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759240" y="6375960"/>
              <a:ext cx="17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ffffff"/>
                  </a:solidFill>
                  <a:latin typeface="Times New Roman"/>
                </a:rPr>
                <a:t>Visanet del Per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5">
            <a:lum bright="-6000"/>
          </a:blip>
          <a:srcRect l="13306" t="0" r="12716" b="0"/>
          <a:stretch/>
        </p:blipFill>
        <p:spPr>
          <a:xfrm>
            <a:off x="7391520" y="30492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secure.iquiero.com/peru/modules/services/security_privacy.asp" TargetMode="Externa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956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ECNOLOGIA Y NEGOCIOS”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43280" y="472428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11280" y="1717560"/>
            <a:ext cx="2411280" cy="35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49645-44F2-4609-B225-603A70FE051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116000" y="132228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9445E-9836-42EC-B345-78E5B960FA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e5ffff"/>
                </a:solidFill>
                <a:latin typeface="Tahoma"/>
              </a:rPr>
              <a:t>Verified by Vi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564000" y="3213000"/>
          <a:ext cx="2232000" cy="122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213000"/>
                    <a:ext cx="2232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DAEC-9A72-4E06-894A-37D82BD43A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57360" y="12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432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Transacción VbV…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22400" y="126828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1280" y="3421080"/>
            <a:ext cx="2905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1.Agregar un producto a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3114720" y="1292400"/>
            <a:ext cx="2925720" cy="2193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051440" y="3433680"/>
            <a:ext cx="1311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2.Registrar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107040" y="1306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341040" y="3429000"/>
            <a:ext cx="260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3. Importe Total en el Carri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22400" y="37004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6760" y="5850000"/>
            <a:ext cx="2958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4. Ingresar Tarjeta y venci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313524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614040" y="5850000"/>
            <a:ext cx="211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5. Ingresar Contraseñ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124680" y="3713040"/>
            <a:ext cx="2925720" cy="2195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52920" y="5843520"/>
            <a:ext cx="2631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ffff"/>
                </a:solidFill>
                <a:latin typeface="Arial"/>
              </a:rPr>
              <a:t>6. Pantalla final de 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03240" y="3137040"/>
            <a:ext cx="235080" cy="120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1720" y="2305080"/>
            <a:ext cx="635040" cy="235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2165400"/>
            <a:ext cx="1295280" cy="561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05040" y="4683240"/>
            <a:ext cx="838080" cy="17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19600" y="4740120"/>
            <a:ext cx="571320" cy="142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4403880"/>
            <a:ext cx="1219320" cy="371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C00E-3E20-4C62-8E3F-BDEE40E77A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dopción de VbV a nivel Glo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544760"/>
            <a:ext cx="863280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61 países representan el 99% del mercado global de e-commer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63640" y="2781360"/>
          <a:ext cx="5991120" cy="357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5991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4CC9C-4972-45B0-A6D5-00FECD128D6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427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Algunas sugerencias para los </a:t>
            </a:r>
            <a:br>
              <a:rPr sz="3200"/>
            </a:br>
            <a:r>
              <a:rPr b="0" lang="es-ES_tradnl" sz="3200" spc="-1" strike="noStrike">
                <a:solidFill>
                  <a:srgbClr val="e5ffff"/>
                </a:solidFill>
                <a:latin typeface="Tahoma"/>
              </a:rPr>
              <a:t>comercios electrónico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9120" y="198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nue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más grandes que las norma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s con muchos items repet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radores apur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irecciones internacio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D44FA-7FAB-4A57-8156-B126E30601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43240" y="2536920"/>
            <a:ext cx="4749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Visa, Por que la Tecnología es Ahora”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plicaciones globales para 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l mercado local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643280" y="5180040"/>
            <a:ext cx="41767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Cesar Rodrígue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Gerente Desarrollo de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Tahoma"/>
              </a:rPr>
              <a:t>Visanet del Per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3961080" cy="32400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BE269-F77B-440C-A136-F74ED2F957A2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presencia de las nuevas tecnologías en la sociedad es cada vez más perceptible y no sólo afecta a factores económicos y empresariales como la producción, la distribución, el mercado o el empleo, sino que comienza a convertirse en piedra angular de cualquier actividad humana modern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" descr="Printed Circuit Board"/>
          <p:cNvPicPr/>
          <p:nvPr/>
        </p:nvPicPr>
        <p:blipFill>
          <a:blip r:embed="rId2"/>
          <a:stretch/>
        </p:blipFill>
        <p:spPr>
          <a:xfrm>
            <a:off x="5724360" y="1844640"/>
            <a:ext cx="29592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ED8AE-FECA-47F3-9672-FA46AAD26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24160" y="4478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46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desarrollo tecnológico como la Internet, las comunicaciones móviles, banda ancha, satélites, las microondas, etc.– estan produciendo cambios significativos en la estructura económica y social, y en el conjunto de las relaciones so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mos ante un nuevo modelo social, l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sociedad globalizada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en el que las fronteras desaparecen en beneficio de los intercambios de ideas, mensajes, productos, servicios, personas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" descr="scifi112"/>
          <p:cNvPicPr/>
          <p:nvPr/>
        </p:nvPicPr>
        <p:blipFill>
          <a:blip r:embed="rId2"/>
          <a:stretch/>
        </p:blipFill>
        <p:spPr>
          <a:xfrm>
            <a:off x="5651640" y="2519280"/>
            <a:ext cx="3168360" cy="22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AF2F-8144-4C2F-A758-93922BAAE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os procesos de negoci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Con el uso de las nuevas tecnologías, se tiene la gran oportunidad de redefinir los procesos de negocio mejorándolos importantemente y reduciendo sus cos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Mejora de las acciones de comunicación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uede emplear Internet para la mejora de las comunicaciones tanto con los clientes como con los proveedores. Esto repercutirá directamente en los costes de comunicación reduciéndolos drásticam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Fidelización de los cliente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stos momentos, ninguna organización puede permitirse perder clientes. Para ello, tener las correctas estrategias de fidelización de clientes apoyadas por las nuevas tecnologías e Internet puede ser definiti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E4B8-7BAC-487A-9D59-BEF11C7F8C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e5ffff"/>
                </a:solidFill>
                <a:latin typeface="Tahoma"/>
              </a:rPr>
              <a:t>Oportunidades que brinda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aptación de clientes a costes "razonables"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mpleando Internet para el desarrollo de acciones a un coste interesante, lo que repercutirá en los ingresos de la empresa con una inversión, y por tanto riesgo, permisi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ducción de costes de compra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 a la eliminación de intermediarios, descubrimiento de nuevos proveedores y al uso de subastas en las tiendas virtuales (e-marketplac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32D83-ABD3-47E9-A1F3-7ECCE15EC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46040" y="1622520"/>
            <a:ext cx="7935840" cy="4408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1647720"/>
          <a:ext cx="815508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47720"/>
                    <a:ext cx="815508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38120" y="387360"/>
            <a:ext cx="79628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actores Determinantes en </a:t>
            </a:r>
            <a:br>
              <a:rPr sz="3200"/>
            </a:b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la Compra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virt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19280" y="4024440"/>
            <a:ext cx="2322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20960" y="359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3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9AAC-74DE-4BD7-8686-E95DB17AA3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tipos de fraude más comunes son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El uso de tarjetas de crédito robada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Utilización de identidades falsa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Software generador de números de tarje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) Paginas clon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24000" y="4094280"/>
            <a:ext cx="2146320" cy="1422360"/>
            <a:chOff x="324000" y="4094280"/>
            <a:chExt cx="2146320" cy="1422360"/>
          </a:xfrm>
        </p:grpSpPr>
        <p:sp>
          <p:nvSpPr>
            <p:cNvPr id="205" name=""/>
            <p:cNvSpPr/>
            <p:nvPr/>
          </p:nvSpPr>
          <p:spPr>
            <a:xfrm>
              <a:off x="324000" y="409428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 del Tarjetahabiente 95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684360" y="4640040"/>
              <a:ext cx="1368360" cy="87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2627280" y="4075200"/>
            <a:ext cx="1765440" cy="1338120"/>
            <a:chOff x="2627280" y="4075200"/>
            <a:chExt cx="1765440" cy="1338120"/>
          </a:xfrm>
        </p:grpSpPr>
        <p:sp>
          <p:nvSpPr>
            <p:cNvPr id="208" name=""/>
            <p:cNvSpPr/>
            <p:nvPr/>
          </p:nvSpPr>
          <p:spPr>
            <a:xfrm>
              <a:off x="2627280" y="4075200"/>
              <a:ext cx="176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utenticación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del Comercio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3065400" y="4749840"/>
            <a:ext cx="960480" cy="66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65400" y="4749840"/>
                      <a:ext cx="960480" cy="66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1" name=""/>
          <p:cNvGrpSpPr/>
          <p:nvPr/>
        </p:nvGrpSpPr>
        <p:grpSpPr>
          <a:xfrm>
            <a:off x="4716360" y="4075560"/>
            <a:ext cx="1798560" cy="936000"/>
            <a:chOff x="4716360" y="4075560"/>
            <a:chExt cx="1798560" cy="936000"/>
          </a:xfrm>
        </p:grpSpPr>
        <p:sp>
          <p:nvSpPr>
            <p:cNvPr id="212" name=""/>
            <p:cNvSpPr/>
            <p:nvPr/>
          </p:nvSpPr>
          <p:spPr>
            <a:xfrm>
              <a:off x="4851360" y="4686120"/>
              <a:ext cx="1465200" cy="325440"/>
            </a:xfrm>
            <a:prstGeom prst="leftRightArrow">
              <a:avLst>
                <a:gd name="adj1" fmla="val 50000"/>
                <a:gd name="adj2" fmla="val 89627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16360" y="4075560"/>
              <a:ext cx="1798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ncripción del Canal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800760" y="4065480"/>
            <a:ext cx="2019240" cy="1739880"/>
            <a:chOff x="6800760" y="4065480"/>
            <a:chExt cx="2019240" cy="1739880"/>
          </a:xfrm>
        </p:grpSpPr>
        <p:sp>
          <p:nvSpPr>
            <p:cNvPr id="215" name=""/>
            <p:cNvSpPr/>
            <p:nvPr/>
          </p:nvSpPr>
          <p:spPr>
            <a:xfrm>
              <a:off x="7376760" y="5075280"/>
              <a:ext cx="979200" cy="7300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00760" y="4065480"/>
              <a:ext cx="201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Ataques a la base de datos del Comercio (Ejemplo, Hacker)</a:t>
              </a:r>
              <a:br>
                <a:rPr sz="1400"/>
              </a:b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2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D311-EBDD-4374-87D1-AB6D6E3288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14080" y="1847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simismo el 47% cree que añadiendo un logo o icono de algunas soluciones dedicadas a la seguridad en las transacciones y que influyan en la confianza del usuario ayudarían a suavizar el miedo de los consumidore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79280" y="611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5ffff"/>
                </a:solidFill>
                <a:latin typeface="Tahoma"/>
              </a:rPr>
              <a:t>Fraude en la Internet: Mito o Realidad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081080" cy="105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780000" y="4221000"/>
            <a:ext cx="822240" cy="9367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96000" y="4005360"/>
            <a:ext cx="793800" cy="12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8ABA-0916-48EF-90BE-47C0CA04A4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0920" y="762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Requisitos de Seguridad en los Pa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5360" y="198900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atro Princip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360" y="285264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omer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437832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Autenticación del Cl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360" y="334800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cripción del ca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801960"/>
            <a:ext cx="792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se de datos ( Información del cl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D0B7F-DEF3-46D1-AF88-227710F6F4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9:48:55Z</dcterms:created>
  <dc:creator>crodriguez</dc:creator>
  <dc:description/>
  <dc:language>en-US</dc:language>
  <cp:lastModifiedBy>jore</cp:lastModifiedBy>
  <dcterms:modified xsi:type="dcterms:W3CDTF">2004-11-25T13:21:24Z</dcterms:modified>
  <cp:revision>51</cp:revision>
  <dc:subject/>
  <dc:title>Visa, Por que la Tecnología es ahora, aplicaciones globales para el mercado local</dc:title>
</cp:coreProperties>
</file>